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38E1-25F5-4773-A5A4-BC49F05A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4399-7076-470D-886D-4FF69EE2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540-C480-49B7-8C6F-D4472B2C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8CE-D8A5-427D-8B5E-8942BE8E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955-C5DA-4718-9F10-4C641D10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F25-DCFA-4D32-9529-913D0B4C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BA1-B8C5-47D9-82D7-22081625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1E31-0DF1-4DB7-A484-DCD5FF11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CFE-3EB5-4577-81DB-EE4FD39B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D03-0033-46B8-9B00-F9B1E2B1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B125-CCCE-4448-82E7-9E43C62F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650F-2B78-4BFE-9239-99124748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E0EA-BB08-4DE6-8EEB-10AEC0D84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ing Good Listening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3429000" y="3581280"/>
          <a:ext cx="23623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3581280"/>
                    <a:ext cx="23623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876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nk about what the class is going to be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were the main points covered in the last 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iew what your assignment was for the 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Object 4"/>
          <p:cNvGraphicFramePr/>
          <p:nvPr/>
        </p:nvGraphicFramePr>
        <p:xfrm>
          <a:off x="5029200" y="2209680"/>
          <a:ext cx="3809880" cy="35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2209680"/>
                    <a:ext cx="380988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ring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05740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10515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entrate on what is going on in class - do not daydre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can not listen if you are talking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e what you have already learned to what is being taught. Think about your readings and home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7"/>
          <p:cNvGraphicFramePr/>
          <p:nvPr/>
        </p:nvGraphicFramePr>
        <p:xfrm>
          <a:off x="228600" y="2362320"/>
          <a:ext cx="3048120" cy="26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62320"/>
                    <a:ext cx="30481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ring Clas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k ques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entrat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ke notes on the main points whether you are told to or no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4648320" y="2322360"/>
          <a:ext cx="3809880" cy="34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22360"/>
                    <a:ext cx="380988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3"/>
          <p:cNvGraphicFramePr/>
          <p:nvPr/>
        </p:nvGraphicFramePr>
        <p:xfrm>
          <a:off x="304920" y="2971800"/>
          <a:ext cx="380988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380988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7636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iew your notes and think about what was covered in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people like to rewrite their not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ne and highlight important ideas and vocabul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Listening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1097280" indent="-21924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od listening means you are paying att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y to hear what is said, not what you want to h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nk "around" the topic and "between the lines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e it to what you already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Listening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main poi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likely to be on the te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teacher going to say nex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sten carefully to what the teacher says about an assignment and write it down in your assignment notebook right a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Listening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2" marL="1062720" indent="-21240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sten for essential phrases from the teac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not confuse listening with hearing. You can hear something but not be listening. To listen you must be think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stening is an active, not passive activit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22:41:32Z</dcterms:created>
  <dc:creator>Samantha Murrell</dc:creator>
  <dc:description/>
  <dc:language>en-US</dc:language>
  <cp:lastModifiedBy>shmurray</cp:lastModifiedBy>
  <dcterms:modified xsi:type="dcterms:W3CDTF">2011-06-13T20:03:35Z</dcterms:modified>
  <cp:revision>1</cp:revision>
  <dc:subject/>
  <dc:title>Developing Good Listening Skills</dc:title>
</cp:coreProperties>
</file>